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718E-7DF2-4799-B388-029A1B994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B977-1FA9-4164-874D-DD13A3AE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4011-7846-41FC-8083-AEDD27FCC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5A19-C8F5-4A05-9810-0D9A992B4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2F02-9438-421F-9119-95F7A96A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F668-2ECD-4218-87A6-80EC1720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E142-3199-4C3C-AC31-617ABEDF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C4E6-4614-4EC5-8167-1C42FB68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19A5-4C21-4D03-9979-3CB719C2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378A-EF70-449E-B49F-97553103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26A4-B149-45CA-B13A-59159A64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957E-E355-4202-BF2A-839DAA6C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4528-A64E-45CD-9C67-9B0C1C443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Apostles’ Creed (baptismal for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In unity with the whole Churc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let us stand and affirm the fai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into which we were baptis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1 of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Do you believe in Go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Father Almight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reator of heaven and 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2 of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Do you believe in Jesus Chri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Jesus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od’s only Son, our Lor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was conceiv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the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orn of the Virgin Mar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3 of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uffered under Pontius Pilat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as crucified, die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was buri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descended to the d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4 of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 the third day he rose agai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ascended into heav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is seated at the right h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he will come to judge the living and the d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5 of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Do you believe in the Holy Spir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the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holy catholic Churc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communion of saint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forgiveness of sin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resurrection of the bod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the life everlasting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63244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6 of 6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1:40:14Z</dcterms:created>
  <dc:creator>Anon Anon</dc:creator>
  <dc:description/>
  <dc:language>en-US</dc:language>
  <cp:lastModifiedBy>Anon Anon</cp:lastModifiedBy>
  <dcterms:modified xsi:type="dcterms:W3CDTF">2005-08-16T04:23:11Z</dcterms:modified>
  <cp:revision>19</cp:revision>
  <dc:subject/>
  <dc:title>PowerPoint Presentation</dc:title>
</cp:coreProperties>
</file>